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6E7F-C1D5-4BB1-8DE3-75FE95DB9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D853-C78F-43EC-9C9D-2BA8B9357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7366-3C32-460D-AD1D-ECD7FD230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5C2F-8988-4637-80CE-EC28615A0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D371-802B-4951-AD4B-1C86844B6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43A6-9EF0-4BE1-9AA7-7B51B538E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52E-A18C-4DC2-9929-854C16385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F61C-72AC-4603-AD0F-465CFE57A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688B-713B-4BB6-B6E5-C9A7644BD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50A1-B1CB-4400-955D-5D69346D5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E93A-2B0D-4D9A-9FF6-52F60D62A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D87B-05D6-4120-95B0-75D3D75AD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8FA-F552-457E-826B-89F7950844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lankes Entsetzen an der Wall-Street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Tokios Börse auf Talfa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Frankreichs Banker schlie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Wie lange hält die Finanzkrise 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Die Wall Street erlebte ihren schlimmsten Tag seit dem Börsencrash im Oktober 19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Weltweit fehlen  Billionen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Aktuell befinden sich 15% aller Kräne der Welt in Dub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Skyline von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0" y="1255680"/>
            <a:ext cx="9094680" cy="439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1117440"/>
            <a:ext cx="8229600" cy="321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Alles wurde in den vergangenen 5 Jahren gebaut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old"/>
                <a:ea typeface="Arial Bold"/>
              </a:rPr>
              <a:t>inklusive der künstlichen Inseln in Form einer Pal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921440" cy="5751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Palmen-Inseln von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 Eine neuartige Technologie von holländischen Deichbauern mach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es möglich, eine solche Vielzah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n Inseln zu bauen.Es ist d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rösste künstliche Inselgrupp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Welt, die sogar aus de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ltall gesehen werden kan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Letztlich sind drei solche Palmeninseln geplant, wobei die letzte die grös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sein wird. Das Ressort wird 2’000 Villen umfassen, 40 Luxus-Hotels, Shopping-Center, Kinos und vieles mehr. Es wird mit einer Bevölkerung von 500’000 Personen gerech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o ist das Geld gebli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old"/>
                <a:ea typeface="Arial Bold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8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Die Welt-Insel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300 künstliche Inseln in der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Form der Erde. Jede einzeln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dieser Inseln kostet zwische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old"/>
                <a:ea typeface="Arial Bold"/>
              </a:rPr>
              <a:t>25-30 Millionen US-Doll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3972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362800" cy="45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Hotel Burj al-Arab in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höchste Hotelgebäude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teuerste Hotel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einzige Hotel der Welt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7 Sternen. Gebaut auf ein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künstlichen Insel im M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178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Hydropol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erste Hotel unter Wass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llständig in Deutschland konstruiert und dann in Dubai montier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 Eröffnung war 200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(mit beträchtlicher Verspätu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9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The Burj Dubai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Bau wurde 2005 begonne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it seiner Höhe von mehr a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800 Metern ist es das höch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bäude der Welt. Es ist ru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40% höher als das aktuell höchste Gebäude der Welt, der Yaipei 1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35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So präsentiert sich das Stadtzentrum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von Dubai. Es wurden über 140 Stockwerke des “Burj Dubai” geba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831960"/>
            <a:ext cx="9144000" cy="519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i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53060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170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“Burj Dubai” wird das neue Zentrum der Skyline von Dubai werd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444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033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Kürzlich wurde dieses Gebäude angekündigt, dessen Turm eine Höhe von 1’200 Metern haben wir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mit wäre er 30% höher als das “Burj Dubai” und drei mal so hoch wie das Empire State Building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avanciert damit zu einer Gross-Stadt erster K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89120" y="0"/>
            <a:ext cx="3965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Burj al Alam (The World Tower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Bei seiner Fertigstellung wird es das höchste Hotelgebäude der Welt sei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it seinen 480 Metern wird es nu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28 Meter kleiner sein als Taipei 1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3351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099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The Trump International Hotel &amp; Tower wird das Zentrum einer der drei Palm-insel-gruppen, der Palme “Jumeira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4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583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Zur Zeit ist das Walt Disney World Resort, in Orlando die grösste zusammenhängende Erlebnispark-Kombination und damit der gröss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lokale Arbeitgeber in den USA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58’000 Angestellte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 wird doppelt so g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3080" y="2997360"/>
            <a:ext cx="7137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1990, vor dem grossen Wahnsin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217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land kostet 20 Milliarden US-Dolla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plant sind 45 grosse und 200 kleinere Bah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328760"/>
            <a:ext cx="9144000" cy="394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40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Sports C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Eine enorme Ansammlung von verschiedenen Sportstadi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Dubai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Moment noch ist das Wal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sney World Resort die erste Ausflugsdestination der Welt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Nach der Fertigstellung wird Dubailand diesen Titel mit Leichtigke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übernehmen, werden doch 200’000 Besucher pro Tag erwar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-27000"/>
            <a:ext cx="691200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Am Hafen von Dubai wurden über 200 Wolkenkratzer geplant.  Es ist dan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grösste Ansammlung von Wolkenkratzern auf der Erd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ubai Mall ist das grösste Einkaufszentrum der Welt mi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über 1000 Geschäf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24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ie grösste geschlossene Ski-Hal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er Welt.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Das Bild ist eine Planungs-Skizz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für eine zweite Ha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394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Mehrere der höchsten Gebäude d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lt, wie das “Ocean Heights” u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“The Princess Tower”, die zu den grössten Wohnblocks der Wel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gehören, werden oder wurd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im Hafen von Dubai geba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99736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old"/>
                <a:ea typeface="Arial Bold"/>
              </a:rPr>
              <a:t>Wer Öl hat…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die gleiche Strasse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-19080"/>
            <a:ext cx="8713800" cy="695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  <a:ea typeface="Arial Bold"/>
              </a:rPr>
              <a:t>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an: wicho, brödler, berni</dc:description>
  <dc:language>en-US</dc:language>
  <cp:lastModifiedBy/>
  <cp:revision>0</cp:revision>
  <dc:subject/>
  <dc:title>von elfi</dc:title>
</cp:coreProperties>
</file>