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B1845-DA81-4BA0-80A4-1970E32A80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9497D-5C58-42E9-86B6-15089DFC57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00BBC-F7DC-4B6A-BC7F-3660A07621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B65C9-2F2E-4A25-B8AF-24E7415A76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44754-7DCA-4E41-A876-81EC9B128E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E41E8-433E-484F-AA92-B84AA0C8CC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2F4AD-83A7-49CD-B338-31B94DD731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00A06-2A40-41FF-B63D-1A479E275F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3639D-C6B1-4373-A7E2-05B74ADE6A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B7834-C9C1-488A-8ECA-5E14EED388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588AE-E1B2-45D7-BEE6-9E5E774E26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45241-D376-40BB-B428-540D0F893B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19D0-4715-45CA-8093-EA9BB8D7557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70812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lankes Entsetzen an der Wall-Street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old"/>
                <a:ea typeface="Arial Bold"/>
              </a:rPr>
              <a:t>Tokios Börse auf Talfah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old"/>
                <a:ea typeface="Arial Bold"/>
              </a:rPr>
              <a:t>Frankreichs Banker schließ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old"/>
                <a:ea typeface="Arial Bold"/>
              </a:rPr>
              <a:t>Wie lange hält die Finanzkrise 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old"/>
                <a:ea typeface="Arial Bold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 Bold"/>
                <a:ea typeface="Arial Bold"/>
              </a:rPr>
              <a:t>Die Wall Street erlebte ihren schlimmsten Tag seit dem Börsencrash im Oktober 198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old"/>
                <a:ea typeface="Arial Bold"/>
              </a:rPr>
              <a:t>Weltweit fehlen  Billionen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old"/>
                <a:ea typeface="Arial Bold"/>
              </a:rPr>
              <a:t>Aktuell befinden sich 15% aller Kräne der Welt in Duba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108080"/>
            <a:ext cx="9144000" cy="4641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old"/>
                <a:ea typeface="Arial Bold"/>
              </a:rPr>
              <a:t>Skyline von Dub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9320" y="1255680"/>
            <a:ext cx="9094680" cy="4398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8640" y="1117440"/>
            <a:ext cx="8229600" cy="32133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old"/>
                <a:ea typeface="Arial Bold"/>
              </a:rPr>
              <a:t>Alles wurde in den vergangenen 5 Jahren gebaut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old"/>
                <a:ea typeface="Arial Bold"/>
              </a:rPr>
              <a:t>inklusive der künstlichen Inseln in Form einer Pal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921440" cy="5751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Die Palmen-Inseln von Dubai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 Eine neuartige Technologie von holländischen Deichbauern macht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es möglich, eine solche Vielzahl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von Inseln zu bauen.Es ist di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grösste künstliche Inselgrupp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der Welt, die sogar aus dem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Weltall gesehen werden kan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Letztlich sind drei solche Palmeninseln geplant, wobei die letzte die grösst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sein wird. Das Ressort wird 2’000 Villen umfassen, 40 Luxus-Hotels, Shopping-Center, Kinos und vieles mehr. Es wird mit einer Bevölkerung von 500’000 Personen gerech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99960"/>
            <a:ext cx="9144000" cy="6058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20415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o ist das Geld geblieb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old"/>
                <a:ea typeface="Arial Bold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58910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Arial Bold"/>
                <a:ea typeface="Arial Bold"/>
              </a:rPr>
              <a:t>Die Welt-Inseln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old"/>
                <a:ea typeface="Arial Bold"/>
              </a:rPr>
              <a:t>300 künstliche Inseln in der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old"/>
                <a:ea typeface="Arial Bold"/>
              </a:rPr>
              <a:t>Form der Erde. Jede einzelne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old"/>
                <a:ea typeface="Arial Bold"/>
              </a:rPr>
              <a:t>dieser Inseln kostet zwischen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old"/>
                <a:ea typeface="Arial Bold"/>
              </a:rPr>
              <a:t>25-30 Millionen US-Doll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639720"/>
            <a:ext cx="9144000" cy="5578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362800" cy="45230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Hotel Burj al-Arab in Dubai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Das höchste Hotelgebäude der Welt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Das teuerste Hotel der Welt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Das einzige Hotel der Welt mi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7 Sternen. Gebaut auf eine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künstlichen Insel im Me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6178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Hydropolis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das erste Hotel unter Wasser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Vollständig in Deutschland konstruiert und dann in Dubai montiert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 Eröffnung war 2009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(mit beträchtlicher Verspätu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29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6249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The Burj Dubai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Der Bau wurde 2005 begonnen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Mit seiner Höhe von mehr al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800 Metern ist es das höchst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Gebäude der Welt. Es ist ru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40% höher als das aktuell höchste Gebäude der Welt, der Yaipei 10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356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63230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So präsentiert sich das Stadtzentrum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von Dubai. Es wurden über 140 Stockwerke des “Burj Dubai” gebau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831960"/>
            <a:ext cx="9144000" cy="5194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ie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40000" y="1268280"/>
            <a:ext cx="4530600" cy="5300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5170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Das “Burj Dubai” wird das neue Zentrum der Skyline von Dubai werd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627280" y="0"/>
            <a:ext cx="3444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6033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Kürzlich wurde dieses Gebäude angekündigt, dessen Turm eine Höhe von 1’200 Metern haben wir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Damit wäre er 30% höher als das “Burj Dubai” und drei mal so hoch wie das Empire State Building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Dubai avanciert damit zu einer Gross-Stadt erster Kl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89120" y="0"/>
            <a:ext cx="39657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63230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Burj al Alam (The World Tower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Bei seiner Fertigstellung wird es das höchste Hotelgebäude der Welt sein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Mit seinen 480 Metern wird es nu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28 Meter kleiner sein als Taipei 10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843280" y="0"/>
            <a:ext cx="33512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50990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The Trump International Hotel &amp; Tower wird das Zentrum einer der drei Palm-insel-gruppen, der Palme “Jumeirah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846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6583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Dubailand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Zur Zeit ist das Walt Disney World Resort, in Orlando die grösste zusammenhängende Erlebnispark-Kombination und damit der grösst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lokale Arbeitgeber in den USA mi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58’000 Angestellten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Dubailand wird doppelt so g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393840"/>
            <a:ext cx="9144000" cy="6070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3080" y="2997360"/>
            <a:ext cx="713736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old"/>
                <a:ea typeface="Arial Bold"/>
              </a:rPr>
              <a:t>Duba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1990, vor dem grossen Wahnsinn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2340000"/>
            <a:ext cx="9144000" cy="217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393840"/>
            <a:ext cx="9144000" cy="6070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249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Dubailand kostet 20 Milliarden US-Dollar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Geplant sind 45 grosse und 200 kleinere Bahn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1328760"/>
            <a:ext cx="9144000" cy="3940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40910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Dubai Sports City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Eine enorme Ansammlung von verschiedenen Sportstadie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im Dubai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58910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Im Moment noch ist das Wal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Disney World Resort die erste Ausflugsdestination der Welt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Nach der Fertigstellung wird Dubailand diesen Titel mit Leichtigkei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übernehmen, werden doch 200’000 Besucher pro Tag erwart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16000" y="-27000"/>
            <a:ext cx="6912000" cy="6912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63230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Am Hafen von Dubai wurden über 200 Wolkenkratzer geplant.  Es ist dan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die grösste Ansammlung von Wolkenkratzern auf der Erde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Dubai Mall ist das grösste Einkaufszentrum der Welt mi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über 1000 Geschäf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241200"/>
            <a:ext cx="9144000" cy="6375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266760"/>
            <a:ext cx="9144000" cy="6200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6249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Die grösste geschlossene Ski-Hall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der Welt.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Das Bild ist eine Planungs-Skizz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für eine zweite Ha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6394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Mehrere der höchsten Gebäude de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Welt, wie das “Ocean Heights” u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“The Princess Tower”, die zu den grössten Wohnblocks der Wel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gehören, werden oder wurde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im Hafen von Dubai geba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299736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Wer Öl hat…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34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old"/>
                <a:ea typeface="Arial Bold"/>
              </a:rPr>
              <a:t>die gleiche Strasse 20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9280" y="-19080"/>
            <a:ext cx="8713800" cy="6953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old"/>
                <a:ea typeface="Arial Bold"/>
              </a:rPr>
              <a:t>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an: wicho, brödler, berni</dc:description>
  <dc:language>en-US</dc:language>
  <cp:lastModifiedBy/>
  <cp:revision>0</cp:revision>
  <dc:subject/>
  <dc:title>von elfi</dc:title>
</cp:coreProperties>
</file>