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0E9-0E15-4C13-9FC8-2CC6D273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ECB-1E4F-4EF2-B29E-30D528F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A31-F70E-420E-8A2A-5C0CD342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8FC-B90E-42D3-AFCB-0666727B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30B-45D0-4E5B-9429-95FB1206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32B-06C2-4A3A-859D-EBEC3BC4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800-49CB-4F0E-ADB0-3E1A01E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D85-707F-48EE-82DD-EEED50B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5E8-7E0E-4F6A-8E80-079450D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1B1-FD69-4893-9A39-2B173AD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FA4-A280-452A-9ED2-25661A33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D69-5476-4485-A2E9-82D0A93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7B2-07BE-4740-8FCF-EEBA9587774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ATT00000161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TT00010211"/>
          <p:cNvPicPr/>
          <p:nvPr/>
        </p:nvPicPr>
        <p:blipFill>
          <a:blip r:embed="rId2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ATT0001361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ATT00015416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ATT00014131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ATT00017918"/>
          <p:cNvPicPr/>
          <p:nvPr/>
        </p:nvPicPr>
        <p:blipFill>
          <a:blip r:embed="rId1"/>
          <a:stretch/>
        </p:blipFill>
        <p:spPr>
          <a:xfrm>
            <a:off x="444600" y="404640"/>
            <a:ext cx="8254800" cy="60487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ATT000091710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TT000111112"/>
          <p:cNvPicPr/>
          <p:nvPr/>
        </p:nvPicPr>
        <p:blipFill>
          <a:blip r:embed="rId2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ATT000121213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ATT0000182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ATT0000253"/>
          <p:cNvPicPr/>
          <p:nvPr/>
        </p:nvPicPr>
        <p:blipFill>
          <a:blip r:embed="rId1"/>
          <a:stretch/>
        </p:blipFill>
        <p:spPr>
          <a:xfrm>
            <a:off x="444600" y="404640"/>
            <a:ext cx="8254800" cy="61232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ATT0000334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ATT0000415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TT0000879"/>
          <p:cNvPicPr/>
          <p:nvPr/>
        </p:nvPicPr>
        <p:blipFill>
          <a:blip r:embed="rId2"/>
          <a:stretch/>
        </p:blipFill>
        <p:spPr>
          <a:xfrm>
            <a:off x="1276200" y="385920"/>
            <a:ext cx="6591600" cy="60861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TT00005106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zwart wit  2008-05-12_183904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TT00006147"/>
          <p:cNvPicPr/>
          <p:nvPr/>
        </p:nvPicPr>
        <p:blipFill>
          <a:blip r:embed="rId2"/>
          <a:stretch/>
        </p:blipFill>
        <p:spPr>
          <a:xfrm>
            <a:off x="1908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ATT00007158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97708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2:27:29Z</dcterms:created>
  <dc:creator>yannes</dc:creator>
  <dc:description/>
  <dc:language>en-US</dc:language>
  <cp:lastModifiedBy>Billensteiner Karin</cp:lastModifiedBy>
  <dcterms:modified xsi:type="dcterms:W3CDTF">2010-11-18T08:11:53Z</dcterms:modified>
  <cp:revision>5</cp:revision>
  <dc:subject/>
  <dc:title>Dia 1</dc:title>
</cp:coreProperties>
</file>