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4B8-620E-4875-9964-9E50B479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27D-7A33-4924-8AD5-0BCEFA97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ECB-5C4B-4411-A63C-01A5612F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FA0-64CD-40D2-AC05-553109A7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4C5-ADA6-48D9-9D86-B8C54142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975-C629-4910-9AEA-BD82AD75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099-1C1C-41D3-8365-C500289A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410-C992-4E50-A0F0-93D27A6E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227-7702-41D6-8E8B-54AAB1CD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80D-C3BD-45EB-93FC-4A6585BC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4FF-F857-44C5-B9D9-90BEF01A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7AD-64CE-48F1-B6A7-080F5382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511E-BFFA-4334-8D3E-3AFD2C82460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4" descr="ATT00000161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zwart wit  2008-05-12_183904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ATT00010211"/>
          <p:cNvPicPr/>
          <p:nvPr/>
        </p:nvPicPr>
        <p:blipFill>
          <a:blip r:embed="rId2"/>
          <a:stretch/>
        </p:blipFill>
        <p:spPr>
          <a:xfrm>
            <a:off x="190800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ATT00013614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ATT00015416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ATT000141315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ATT00017918"/>
          <p:cNvPicPr/>
          <p:nvPr/>
        </p:nvPicPr>
        <p:blipFill>
          <a:blip r:embed="rId1"/>
          <a:stretch/>
        </p:blipFill>
        <p:spPr>
          <a:xfrm>
            <a:off x="444600" y="404640"/>
            <a:ext cx="8254800" cy="60487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ATT000091710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zwart wit  2008-05-12_183904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ATT000111112"/>
          <p:cNvPicPr/>
          <p:nvPr/>
        </p:nvPicPr>
        <p:blipFill>
          <a:blip r:embed="rId2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ATT000121213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zwart wit  2008-05-12_183904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ATT0000182"/>
          <p:cNvPicPr/>
          <p:nvPr/>
        </p:nvPicPr>
        <p:blipFill>
          <a:blip r:embed="rId2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ATT0000253"/>
          <p:cNvPicPr/>
          <p:nvPr/>
        </p:nvPicPr>
        <p:blipFill>
          <a:blip r:embed="rId1"/>
          <a:stretch/>
        </p:blipFill>
        <p:spPr>
          <a:xfrm>
            <a:off x="444600" y="404640"/>
            <a:ext cx="8254800" cy="612324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ATT0000334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ATT0000415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zwart wit  2008-05-12_1839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ATT0000879"/>
          <p:cNvPicPr/>
          <p:nvPr/>
        </p:nvPicPr>
        <p:blipFill>
          <a:blip r:embed="rId2"/>
          <a:stretch/>
        </p:blipFill>
        <p:spPr>
          <a:xfrm>
            <a:off x="1276200" y="385920"/>
            <a:ext cx="6591600" cy="608616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zwart wit  2008-05-12_183904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ATT00005106"/>
          <p:cNvPicPr/>
          <p:nvPr/>
        </p:nvPicPr>
        <p:blipFill>
          <a:blip r:embed="rId2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zwart wit  2008-05-12_183904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ATT00006147"/>
          <p:cNvPicPr/>
          <p:nvPr/>
        </p:nvPicPr>
        <p:blipFill>
          <a:blip r:embed="rId2"/>
          <a:stretch/>
        </p:blipFill>
        <p:spPr>
          <a:xfrm>
            <a:off x="190800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ATT00007158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2:27:29Z</dcterms:created>
  <dc:creator>yannes</dc:creator>
  <dc:description/>
  <dc:language>en-US</dc:language>
  <cp:lastModifiedBy>Billensteiner Karin</cp:lastModifiedBy>
  <dcterms:modified xsi:type="dcterms:W3CDTF">2010-11-18T08:11:53Z</dcterms:modified>
  <cp:revision>5</cp:revision>
  <dc:subject/>
  <dc:title>Dia 1</dc:title>
</cp:coreProperties>
</file>