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68080"/>
            <a:ext cx="77709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6808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6808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68080"/>
            <a:ext cx="250200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68080"/>
            <a:ext cx="250200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68080"/>
            <a:ext cx="250200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2120"/>
            <a:ext cx="7770960" cy="63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6808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6808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68080"/>
            <a:ext cx="7770960" cy="19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2120"/>
            <a:ext cx="7770960" cy="13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981080" cy="6858000"/>
          </a:xfrm>
          <a:custGeom>
            <a:avLst/>
            <a:gdLst>
              <a:gd name="textAreaLeft" fmla="*/ 360 w 1981080"/>
              <a:gd name="textAreaRight" fmla="*/ 1980720 w 198108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74764">
                <a:moveTo>
                  <a:pt x="17" y="0"/>
                </a:moveTo>
                <a:arcTo wR="17" hR="17" stAng="16200000" swAng="-5400000"/>
                <a:lnTo>
                  <a:pt x="0" y="74747"/>
                </a:lnTo>
                <a:arcTo wR="17" hR="17" stAng="10800000" swAng="-5400000"/>
                <a:lnTo>
                  <a:pt x="21583" y="74764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0"/>
            <a:ext cx="1981080" cy="6858000"/>
          </a:xfrm>
          <a:custGeom>
            <a:avLst/>
            <a:gdLst>
              <a:gd name="textAreaLeft" fmla="*/ 360 w 1981080"/>
              <a:gd name="textAreaRight" fmla="*/ 1980720 w 198108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74764">
                <a:moveTo>
                  <a:pt x="17" y="0"/>
                </a:moveTo>
                <a:arcTo wR="17" hR="17" stAng="16200000" swAng="-5400000"/>
                <a:lnTo>
                  <a:pt x="0" y="74747"/>
                </a:lnTo>
                <a:arcTo wR="17" hR="17" stAng="10800000" swAng="-5400000"/>
                <a:lnTo>
                  <a:pt x="21583" y="74764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371600" cy="6858000"/>
          </a:xfrm>
          <a:custGeom>
            <a:avLst/>
            <a:gdLst>
              <a:gd name="textAreaLeft" fmla="*/ 360 w 1371600"/>
              <a:gd name="textAreaRight" fmla="*/ 1371240 w 137160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977">
                <a:moveTo>
                  <a:pt x="25" y="0"/>
                </a:moveTo>
                <a:arcTo wR="25" hR="25" stAng="16200000" swAng="-5400000"/>
                <a:lnTo>
                  <a:pt x="0" y="107952"/>
                </a:lnTo>
                <a:arcTo wR="25" hR="25" stAng="10800000" swAng="-5400000"/>
                <a:lnTo>
                  <a:pt x="21575" y="10797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0"/>
            <a:ext cx="1371600" cy="6858000"/>
          </a:xfrm>
          <a:custGeom>
            <a:avLst/>
            <a:gdLst>
              <a:gd name="textAreaLeft" fmla="*/ 360 w 1371600"/>
              <a:gd name="textAreaRight" fmla="*/ 1371240 w 137160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977">
                <a:moveTo>
                  <a:pt x="25" y="0"/>
                </a:moveTo>
                <a:arcTo wR="25" hR="25" stAng="16200000" swAng="-5400000"/>
                <a:lnTo>
                  <a:pt x="0" y="107952"/>
                </a:lnTo>
                <a:arcTo wR="25" hR="25" stAng="10800000" swAng="-5400000"/>
                <a:lnTo>
                  <a:pt x="21575" y="10797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447920" cy="6858000"/>
          </a:xfrm>
          <a:custGeom>
            <a:avLst/>
            <a:gdLst>
              <a:gd name="textAreaLeft" fmla="*/ 360 w 1447920"/>
              <a:gd name="textAreaRight" fmla="*/ 1447560 w 1447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2287">
                <a:moveTo>
                  <a:pt x="23" y="0"/>
                </a:moveTo>
                <a:arcTo wR="23" hR="23" stAng="16200000" swAng="-5400000"/>
                <a:lnTo>
                  <a:pt x="0" y="102264"/>
                </a:lnTo>
                <a:arcTo wR="23" hR="23" stAng="10800000" swAng="-5400000"/>
                <a:lnTo>
                  <a:pt x="21577" y="102287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0"/>
            <a:ext cx="1371600" cy="6858000"/>
          </a:xfrm>
          <a:custGeom>
            <a:avLst/>
            <a:gdLst>
              <a:gd name="textAreaLeft" fmla="*/ 360 w 1371600"/>
              <a:gd name="textAreaRight" fmla="*/ 1371240 w 137160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977">
                <a:moveTo>
                  <a:pt x="25" y="0"/>
                </a:moveTo>
                <a:arcTo wR="25" hR="25" stAng="16200000" swAng="-5400000"/>
                <a:lnTo>
                  <a:pt x="0" y="107952"/>
                </a:lnTo>
                <a:arcTo wR="25" hR="25" stAng="10800000" swAng="-5400000"/>
                <a:lnTo>
                  <a:pt x="21575" y="10797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ensteiner Karin</cp:lastModifiedBy>
  <dcterms:modified xsi:type="dcterms:W3CDTF">2010-11-18T08:12:45Z</dcterms:modified>
  <cp:revision>1</cp:revision>
  <dc:subject/>
  <dc:title>Folie 1</dc:title>
</cp:coreProperties>
</file>