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4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0" y="0"/>
              <a:ext cx="9142560" cy="6856560"/>
            </a:xfrm>
            <a:prstGeom prst="roundRect">
              <a:avLst>
                <a:gd name="adj" fmla="val 23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0"/>
              <a:ext cx="9142560" cy="6856560"/>
            </a:xfrm>
            <a:prstGeom prst="roundRect">
              <a:avLst>
                <a:gd name="adj" fmla="val 23"/>
              </a:avLst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0"/>
              <a:ext cx="9142560" cy="6856560"/>
            </a:xfrm>
            <a:prstGeom prst="roundRect">
              <a:avLst>
                <a:gd name="adj" fmla="val 23"/>
              </a:avLst>
            </a:prstGeom>
            <a:noFill/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0" y="0"/>
              <a:ext cx="9142560" cy="6856560"/>
            </a:xfrm>
            <a:prstGeom prst="roundRect">
              <a:avLst>
                <a:gd name="adj" fmla="val 23"/>
              </a:avLst>
            </a:prstGeom>
            <a:noFill/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4400" y="0"/>
            <a:ext cx="9128160" cy="6856560"/>
            <a:chOff x="14400" y="0"/>
            <a:chExt cx="9128160" cy="68565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00" y="0"/>
              <a:ext cx="91281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4400" y="0"/>
              <a:ext cx="9128160" cy="6856560"/>
            </a:xfrm>
            <a:prstGeom prst="roundRect">
              <a:avLst>
                <a:gd name="adj" fmla="val 23"/>
              </a:avLst>
            </a:prstGeom>
            <a:noFill/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2560" cy="6856560"/>
            </a:xfrm>
            <a:prstGeom prst="roundRect">
              <a:avLst>
                <a:gd name="adj" fmla="val 23"/>
              </a:avLst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0" y="0"/>
              <a:ext cx="9142560" cy="6856560"/>
            </a:xfrm>
            <a:prstGeom prst="roundRect">
              <a:avLst>
                <a:gd name="adj" fmla="val 23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0"/>
              <a:ext cx="9142560" cy="6856560"/>
            </a:xfrm>
            <a:prstGeom prst="roundRect">
              <a:avLst>
                <a:gd name="adj" fmla="val 23"/>
              </a:avLst>
            </a:prstGeom>
            <a:noFill/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516720" y="333360"/>
            <a:ext cx="16556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J’habite l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290920" y="187200"/>
            <a:ext cx="1298520" cy="363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llensteiner Karin</cp:lastModifiedBy>
  <dcterms:modified xsi:type="dcterms:W3CDTF">2010-11-18T08:13:55Z</dcterms:modified>
  <cp:revision>1</cp:revision>
  <dc:subject/>
  <dc:title>Folie 1</dc:title>
</cp:coreProperties>
</file>